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png" ContentType="image/png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A2FC-348D-4601-9A97-3321C5383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B491-5349-4C07-A54B-8E57B3EF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2E27-421C-4F68-8347-E515A985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7081-4637-442A-8C29-255BDDE9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ACEC-2D16-4F9A-83E4-4BCCD3C5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15E6-BAAF-4E28-88F3-A5D1F586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7A17-6CA2-4326-A52F-31997555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A9A8-9A65-41A0-A4AC-C172CB3B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EB4F-75A3-4665-BF0F-74298239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E411-C8BC-4FC3-896E-AD5E4EE4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4BBF-785F-42E8-8E85-11E49AF5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3AFC-5B90-469E-868C-03FEA1A1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FB59-E909-4C71-BB1F-64FDBAF47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Kristen ITC"/>
              </a:rPr>
              <a:t>What is a Plan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By: Avery Barbera, Chandler Barbera,  and Kaeli Otto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MP900437185[1]"/>
          <p:cNvPicPr/>
          <p:nvPr/>
        </p:nvPicPr>
        <p:blipFill>
          <a:blip r:embed="rId1"/>
          <a:stretch/>
        </p:blipFill>
        <p:spPr>
          <a:xfrm>
            <a:off x="228600" y="228600"/>
            <a:ext cx="2060640" cy="2058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MP900182772[1]"/>
          <p:cNvPicPr/>
          <p:nvPr/>
        </p:nvPicPr>
        <p:blipFill>
          <a:blip r:embed="rId2"/>
          <a:stretch/>
        </p:blipFill>
        <p:spPr>
          <a:xfrm>
            <a:off x="6400800" y="380880"/>
            <a:ext cx="2286000" cy="1981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MC900434411[1]"/>
          <p:cNvPicPr/>
          <p:nvPr/>
        </p:nvPicPr>
        <p:blipFill>
          <a:blip r:embed="rId3"/>
          <a:stretch/>
        </p:blipFill>
        <p:spPr>
          <a:xfrm>
            <a:off x="4038480" y="3276720"/>
            <a:ext cx="9478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4600"/>
                            </p:stCondLst>
                            <p:childTnLst>
                              <p:par>
                                <p:cTn id="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98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600"/>
                            </p:stCondLst>
                            <p:childTnLst>
                              <p:par>
                                <p:cTn id="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60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 Mass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33520" y="1600200"/>
          <a:ext cx="807696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076960" cy="4800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ff0"/>
            </a:gs>
            <a:gs pos="100000">
              <a:srgbClr val="ff07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meter Graph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Chart 4" descr=""/>
          <p:cNvPicPr/>
          <p:nvPr/>
        </p:nvPicPr>
        <p:blipFill>
          <a:blip r:embed="rId1"/>
          <a:stretch/>
        </p:blipFill>
        <p:spPr>
          <a:xfrm>
            <a:off x="225360" y="1023840"/>
            <a:ext cx="8583840" cy="58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6cd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meter Graph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Chart 3" descr=""/>
          <p:cNvPicPr/>
          <p:nvPr/>
        </p:nvPicPr>
        <p:blipFill>
          <a:blip r:embed="rId1"/>
          <a:stretch/>
        </p:blipFill>
        <p:spPr>
          <a:xfrm>
            <a:off x="298440" y="1023840"/>
            <a:ext cx="8583480" cy="58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1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0" dur="1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1" dur="1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ber of Moons Graph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Chart 3" descr=""/>
          <p:cNvPicPr/>
          <p:nvPr/>
        </p:nvPicPr>
        <p:blipFill>
          <a:blip r:embed="rId1"/>
          <a:stretch/>
        </p:blipFill>
        <p:spPr>
          <a:xfrm>
            <a:off x="298440" y="907920"/>
            <a:ext cx="8583480" cy="58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500" autoRev="1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33" dur="500" autoRev="1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34" dur="500" autoRev="1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ber of Moons Graph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Chart 4" descr=""/>
          <p:cNvPicPr/>
          <p:nvPr/>
        </p:nvPicPr>
        <p:blipFill>
          <a:blip r:embed="rId1"/>
          <a:stretch/>
        </p:blipFill>
        <p:spPr>
          <a:xfrm>
            <a:off x="378000" y="907920"/>
            <a:ext cx="8583480" cy="58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14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think planets should be called and w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828800" y="1905120"/>
          <a:ext cx="5943600" cy="3244680"/>
        </p:xfrm>
        <a:graphic>
          <a:graphicData uri="http://schemas.openxmlformats.org/drawingml/2006/table">
            <a:tbl>
              <a:tblPr/>
              <a:tblGrid>
                <a:gridCol w="2538360"/>
                <a:gridCol w="1703520"/>
                <a:gridCol w="1701720"/>
              </a:tblGrid>
              <a:tr h="4633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ature Plane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 Giant Plane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 Plane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36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or equal to 2,500 k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than 20,000 k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2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36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pit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u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33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36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um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an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36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mak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ptu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33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Box 5"/>
          <p:cNvSpPr/>
          <p:nvPr/>
        </p:nvSpPr>
        <p:spPr>
          <a:xfrm>
            <a:off x="1298520" y="15717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et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phere, that uses gravity to stay up. It is not a planet if it is has a mass less than or equal to 0.0020. It has to orbit the sun in less than 100 Earth years or it is not a planet and it is considered a dwarf planet if it is less than or equal to 2,500 kilometers in diameter. If it is more than 20,000 kilometers it is considered to be a giant or supergiant planet. It is not considered a planet if its’ AU is less than 0.8 or greater than 40.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bital Period (Earth Yrs) Graph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85800" y="1371600"/>
          <a:ext cx="77724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72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bital Period (Earth Yrs) Graph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ance From Sun (AU) Graph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38080" y="1371600"/>
          <a:ext cx="769644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69644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ance From Sun (AU) Graph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5800" y="1371600"/>
          <a:ext cx="792468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9246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Gravity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38080" y="1295280"/>
          <a:ext cx="7696440" cy="526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7696440" cy="5261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 Gravity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85800" y="1600200"/>
          <a:ext cx="777240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772400" cy="4724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Mass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62120" y="1600200"/>
          <a:ext cx="754380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543800" cy="4648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02:26:44Z</dcterms:created>
  <dc:creator>ASD</dc:creator>
  <dc:description/>
  <dc:language>en-US</dc:language>
  <cp:lastModifiedBy>Abbey Barbera</cp:lastModifiedBy>
  <dcterms:modified xsi:type="dcterms:W3CDTF">2011-02-16T00:00:18Z</dcterms:modified>
  <cp:revision>12</cp:revision>
  <dc:subject/>
  <dc:title>What is a Planet?</dc:title>
</cp:coreProperties>
</file>